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F56-8084-49EF-9A8C-B555A3DC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446-EEC7-42DB-BF57-60E76AA5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1A0-7504-4EEA-8326-1F584C3A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BD5-3520-4E62-9169-82604D13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6E0F-0953-411E-89C0-A319BF75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2F5F-5A6F-40AD-B140-43036BD4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B3DC-3D63-4E1E-BF52-72F52231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44E0-2CC5-4F42-BCF4-F85A36AE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CA2A-052F-48EE-BD80-9A905D9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071C-BE7F-439D-8631-7BE92D20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2D90-09BF-49A2-BE6D-0EF7F26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5B5-8490-469F-A921-80067487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EDC7-01D1-4FB3-AFC7-64ED6298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3238-D66E-42BA-84C8-41036BD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48FA-76EC-4DCE-B980-A0D895A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F2C7-989D-44A7-A0AE-24F95F2F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52B5-5228-4426-8F15-FAA5EB53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3E4-9F13-4394-A185-F6295AA1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AE4-677E-4DCF-B43B-1388EE9F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A4E-FBAF-4626-8B2E-213A48D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D7D-3414-45F6-8432-E69397CE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C8A-466E-41CD-8801-03755EF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404-35CA-4DC6-B87F-CA84322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C05-FB6F-4F28-B748-3021AE2B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D37-7799-4BC8-80EE-EFDC705890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6D7-D12C-4610-BCEB-C8C4AF7164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Me llamo _________ Clase 6 NH(601)</a:t>
            </a: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La fecha es el 11 de diciembre del 201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348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Propósito # 19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¿Cómo es tu familia y tu cas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pia y complet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hermano de mi padre es mi 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hija de mis tíos es mi _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Yo soy _________ de los padres de mis pad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padres de mis padres son mis 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cc0000"/>
                </a:solidFill>
                <a:latin typeface="Verdana"/>
              </a:rPr>
              <a:t>Más vocabul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gatito(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kit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errito(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Puppy</a:t>
            </a:r>
            <a:r>
              <a:rPr b="0" lang="en-US" sz="3000" spc="-1" strike="noStrike">
                <a:solidFill>
                  <a:srgbClr val="a3b2c1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único(a)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en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youn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ay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ta la hoja distribu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419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cc0000"/>
                </a:solidFill>
                <a:latin typeface="Verdana"/>
              </a:rPr>
              <a:t>Tarea #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Repaso de vocabulario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8240" y="1676520"/>
            <a:ext cx="4052880" cy="5105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1120" y="18288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99"/>
                </a:solidFill>
                <a:latin typeface="Verdana"/>
              </a:rPr>
              <a:t>La Fami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181296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-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3080" y="2575080"/>
            <a:ext cx="447372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Los Parientes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El miembro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514600"/>
            <a:ext cx="205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9466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La famil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486400" y="4343400"/>
            <a:ext cx="2311560" cy="185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3276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581280"/>
            <a:ext cx="2286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(la mamá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290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733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9880" y="32004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(el papá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0240" y="327672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367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- 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6324480"/>
            <a:ext cx="1447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7150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6248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3434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24360"/>
            <a:ext cx="1676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rothe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01132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452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6248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67280" y="2859120"/>
            <a:ext cx="2667240" cy="26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29200" y="71748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37240" y="117468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020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Hermanastro</a:t>
            </a:r>
            <a:r>
              <a:rPr b="0" lang="es-ES_tradnl" sz="2400" spc="-1" strike="noStrike">
                <a:solidFill>
                  <a:srgbClr val="0033cc"/>
                </a:solidFill>
                <a:latin typeface="Tahoma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epbroth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5562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emelos/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w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533520"/>
            <a:ext cx="2590920" cy="2074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" y="2205000"/>
            <a:ext cx="3319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824040"/>
            <a:ext cx="2362320" cy="33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191120" y="533520"/>
            <a:ext cx="3276360" cy="2403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4221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dr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3880" y="47386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9718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astra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62440" y="34290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ist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28804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padr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0160" y="5805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886200" y="4172040"/>
            <a:ext cx="1752480" cy="260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91320" y="4572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4040" y="510552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5668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611028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la tía</a:t>
            </a: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8380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971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102240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el t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0920" y="289548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04080" y="304812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6480" y="3505320"/>
            <a:ext cx="16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aunts &amp; un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32004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733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b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2286000" cy="210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477120" y="990720"/>
            <a:ext cx="2286000" cy="21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33800" y="43434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4952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gi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47320" y="551664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60339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sob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6320" y="511956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p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5926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sob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6120" y="59580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91520" y="49831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sob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537840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eces &amp; nep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628560"/>
            <a:ext cx="1882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abue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651040" y="8701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762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52920" y="7761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buel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04240" y="7621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m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019920" cy="4025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09680" y="129528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029200" y="12952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Ni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15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715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Niet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7150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Granddaught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752480" y="449568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6248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Verdana"/>
              </a:rPr>
              <a:t>Ni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6248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grandchild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65520" y="152280"/>
            <a:ext cx="188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430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esp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678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es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78320" y="5119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94920" y="5105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6386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espo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97520" y="617220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43040" y="676440"/>
            <a:ext cx="58579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29149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Verdana"/>
              </a:rPr>
              <a:t>mascota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76920" y="76212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09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e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080" y="1932120"/>
            <a:ext cx="10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51920" y="254160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3160" y="29224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13080" y="36846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22860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438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43434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0:06:43Z</dcterms:created>
  <dc:creator>Helen Zumaeta</dc:creator>
  <dc:description/>
  <dc:language>en-US</dc:language>
  <cp:lastModifiedBy>Helen Zumaeta</cp:lastModifiedBy>
  <dcterms:modified xsi:type="dcterms:W3CDTF">2012-12-11T13:32:12Z</dcterms:modified>
  <cp:revision>8</cp:revision>
  <dc:subject/>
  <dc:title>Me llamo _________ Clase 6 NH La fecha es el 14 de marzo del 2012</dc:title>
</cp:coreProperties>
</file>